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7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d5d5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296B-15EB-41AA-A200-5670123D2CD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7ED2-F55D-4974-92F7-4865C51EEE38}" type="slidenum">
              <a:rPr b="0" lang="de-DE" sz="12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7C6C-DC27-48DA-A8DC-01F395811D9E}" type="slidenum">
              <a:rPr b="0" lang="de-DE" sz="12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6A6D-5323-4781-95C7-C401F1830707}" type="slidenum">
              <a:rPr b="0" lang="de-DE" sz="12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7DD09-F3D7-48C4-85A4-56C10E0BF05F}" type="slidenum">
              <a:rPr b="0" lang="de-DE" sz="12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38136-8314-4703-B642-E779E684BC0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9252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0EE05-7F41-4497-A2A5-792C1DB7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FCC0-887B-4B7A-A238-8AA38E40B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9552E-A8B6-4D4B-B2F7-B131A0F781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68B15-9056-4B67-90DC-D06EEB4F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B6E12-4E91-43D9-9190-0107AAFA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1ED6B-2D4C-4064-8817-B75CA6D8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5C243-61D9-4185-8CC1-D1E11BC0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69135-6CBA-4B7D-B4F9-E31B17F1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3A9AC-269E-4C20-BB25-6EC5CA16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58C2C-D3C0-493A-A4D7-DCC1C418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2067F-D1F5-41FE-94D0-65BB509A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" name="Rectangle 29"/>
          <p:cNvSpPr/>
          <p:nvPr/>
        </p:nvSpPr>
        <p:spPr>
          <a:xfrm>
            <a:off x="7696080" y="0"/>
            <a:ext cx="685800" cy="685800"/>
          </a:xfrm>
          <a:prstGeom prst="rect">
            <a:avLst/>
          </a:prstGeom>
          <a:solidFill>
            <a:srgbClr val="f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" name="Rectangle 31"/>
          <p:cNvSpPr/>
          <p:nvPr/>
        </p:nvSpPr>
        <p:spPr>
          <a:xfrm>
            <a:off x="8458200" y="0"/>
            <a:ext cx="685800" cy="685800"/>
          </a:xfrm>
          <a:prstGeom prst="rect">
            <a:avLst/>
          </a:prstGeom>
          <a:solidFill>
            <a:srgbClr val="006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" name="Rectangle 3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019920" y="655272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7848720" y="6552720"/>
            <a:ext cx="1218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D1AD-B2E9-4F17-8A0C-D555A22FE48F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38" descr="typo-Alter-1-1"/>
          <p:cNvPicPr/>
          <p:nvPr/>
        </p:nvPicPr>
        <p:blipFill>
          <a:blip r:embed="rId2"/>
          <a:stretch/>
        </p:blipFill>
        <p:spPr>
          <a:xfrm>
            <a:off x="5486400" y="304920"/>
            <a:ext cx="2057400" cy="279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40"/>
          <p:cNvSpPr/>
          <p:nvPr/>
        </p:nvSpPr>
        <p:spPr>
          <a:xfrm>
            <a:off x="152280" y="65833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Veranstaltung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" name="Text Box 41"/>
          <p:cNvSpPr/>
          <p:nvPr/>
        </p:nvSpPr>
        <p:spPr>
          <a:xfrm>
            <a:off x="3733920" y="65833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" name="Rectangle 43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solidFill>
            <a:srgbClr val="f0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alterundtrauma.de/mediathek/hoeren/es-wuehlt-zuerst-auf-aber-hinterher-wirds-ein-bisschen-leichter.html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hyperlink" Target="http://www.alterundtrauma.de/mediathek/hoeren/es-wuehlt-zuerst-auf-aber-hinterher-wirds-ein-bisschen-leichter.html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D4F2-B07B-4919-B247-46B82C6890F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4" name="Rectangle 5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5" name="Text Box 52"/>
          <p:cNvSpPr/>
          <p:nvPr/>
        </p:nvSpPr>
        <p:spPr>
          <a:xfrm>
            <a:off x="2971800" y="57913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6" name="Rectangle 55"/>
          <p:cNvSpPr/>
          <p:nvPr/>
        </p:nvSpPr>
        <p:spPr>
          <a:xfrm>
            <a:off x="4800600" y="2133720"/>
            <a:ext cx="1828800" cy="1828800"/>
          </a:xfrm>
          <a:prstGeom prst="rect">
            <a:avLst/>
          </a:prstGeom>
          <a:solidFill>
            <a:srgbClr val="f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57" name="Picture 57" descr="frau-kopf"/>
          <p:cNvPicPr/>
          <p:nvPr/>
        </p:nvPicPr>
        <p:blipFill>
          <a:blip r:embed="rId1"/>
          <a:stretch/>
        </p:blipFill>
        <p:spPr>
          <a:xfrm>
            <a:off x="281952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8" descr="mann-frontal"/>
          <p:cNvPicPr/>
          <p:nvPr/>
        </p:nvPicPr>
        <p:blipFill>
          <a:blip r:embed="rId2"/>
          <a:stretch/>
        </p:blipFill>
        <p:spPr>
          <a:xfrm>
            <a:off x="4800600" y="41148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3"/>
          <p:cNvSpPr/>
          <p:nvPr/>
        </p:nvSpPr>
        <p:spPr>
          <a:xfrm>
            <a:off x="2819520" y="4114800"/>
            <a:ext cx="1828800" cy="1828800"/>
          </a:xfrm>
          <a:prstGeom prst="rect">
            <a:avLst/>
          </a:prstGeom>
          <a:solidFill>
            <a:srgbClr val="006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60" name="Picture 66" descr="typo-Alter-1-1"/>
          <p:cNvPicPr/>
          <p:nvPr/>
        </p:nvPicPr>
        <p:blipFill>
          <a:blip r:embed="rId3"/>
          <a:stretch/>
        </p:blipFill>
        <p:spPr>
          <a:xfrm>
            <a:off x="2819520" y="685800"/>
            <a:ext cx="380988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C863-B98F-49F5-B093-596738CEC5CE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06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457200" y="782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Beziehungsgestaltung 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857160" y="1832040"/>
            <a:ext cx="72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Grenzen der eigenen Berufsrolle acht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ürdigung der Erfahrungen und Gefühle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Tros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Respek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Ressourcenorientierung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icherheit schaff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Transparenz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elbstwirksamkeitserfahrungen ermöglich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9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FBA4-3991-43FC-8449-19706234734E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11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Wilwasser\AppData\Local\Microsoft\Windows\Temporary Internet Files\Content.IE5\N486E3VY\MC900281285[1].wmf"/>
          <p:cNvPicPr/>
          <p:nvPr/>
        </p:nvPicPr>
        <p:blipFill>
          <a:blip r:embed="rId2"/>
          <a:stretch/>
        </p:blipFill>
        <p:spPr>
          <a:xfrm>
            <a:off x="3203640" y="1916280"/>
            <a:ext cx="2519280" cy="3728880"/>
          </a:xfrm>
          <a:prstGeom prst="rect">
            <a:avLst/>
          </a:prstGeom>
          <a:ln w="0">
            <a:noFill/>
          </a:ln>
        </p:spPr>
      </p:pic>
      <p:sp>
        <p:nvSpPr>
          <p:cNvPr id="113" name="Textfeld 5"/>
          <p:cNvSpPr/>
          <p:nvPr/>
        </p:nvSpPr>
        <p:spPr>
          <a:xfrm>
            <a:off x="1571760" y="77328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Wie Unerhörtes gehört wird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4" name="Textfeld 27"/>
          <p:cNvSpPr/>
          <p:nvPr/>
        </p:nvSpPr>
        <p:spPr>
          <a:xfrm>
            <a:off x="855720" y="1670040"/>
            <a:ext cx="2214360" cy="824040"/>
          </a:xfrm>
          <a:prstGeom prst="rect">
            <a:avLst/>
          </a:prstGeom>
          <a:noFill/>
          <a:ln w="9360">
            <a:solidFill>
              <a:srgbClr val="006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565656"/>
                </a:solidFill>
                <a:latin typeface="Arial"/>
              </a:rPr>
              <a:t>Sicherheit schaff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5" name="Textfeld 29"/>
          <p:cNvSpPr/>
          <p:nvPr/>
        </p:nvSpPr>
        <p:spPr>
          <a:xfrm>
            <a:off x="849240" y="2779560"/>
            <a:ext cx="214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565656"/>
                </a:solidFill>
                <a:latin typeface="Arial"/>
              </a:rPr>
              <a:t>Traumatische Erfahrungen mitdenk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6" name="Textfeld 31"/>
          <p:cNvSpPr/>
          <p:nvPr/>
        </p:nvSpPr>
        <p:spPr>
          <a:xfrm>
            <a:off x="6286680" y="1590840"/>
            <a:ext cx="235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565656"/>
                </a:solidFill>
                <a:latin typeface="Arial"/>
              </a:rPr>
              <a:t>Traumatische 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565656"/>
                </a:solidFill>
                <a:latin typeface="Arial"/>
              </a:rPr>
              <a:t>Erfahrungen ernst nehm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7" name="Textfeld 35"/>
          <p:cNvSpPr/>
          <p:nvPr/>
        </p:nvSpPr>
        <p:spPr>
          <a:xfrm>
            <a:off x="6350040" y="2800440"/>
            <a:ext cx="2357280" cy="1310760"/>
          </a:xfrm>
          <a:prstGeom prst="rect">
            <a:avLst/>
          </a:prstGeom>
          <a:noFill/>
          <a:ln w="9360">
            <a:solidFill>
              <a:srgbClr val="003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565656"/>
                </a:solidFill>
                <a:latin typeface="Arial"/>
              </a:rPr>
              <a:t>Vermutungen über traumatische Erfahrungen im Team teilen und besprech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8" name="Textfeld 33"/>
          <p:cNvSpPr/>
          <p:nvPr/>
        </p:nvSpPr>
        <p:spPr>
          <a:xfrm>
            <a:off x="768240" y="3879720"/>
            <a:ext cx="2357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565656"/>
                </a:solidFill>
                <a:latin typeface="Arial"/>
              </a:rPr>
              <a:t>Erfahrungen der Selbstwirksamkeit ermöglich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9" name="Textfeld 18"/>
          <p:cNvSpPr/>
          <p:nvPr/>
        </p:nvSpPr>
        <p:spPr>
          <a:xfrm>
            <a:off x="6338880" y="4653000"/>
            <a:ext cx="242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565656"/>
                </a:solidFill>
                <a:latin typeface="Arial"/>
              </a:rPr>
              <a:t>Ressourcen erfrag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0" name="Textfeld 27"/>
          <p:cNvSpPr/>
          <p:nvPr/>
        </p:nvSpPr>
        <p:spPr>
          <a:xfrm>
            <a:off x="826920" y="2813040"/>
            <a:ext cx="2214720" cy="824040"/>
          </a:xfrm>
          <a:prstGeom prst="rect">
            <a:avLst/>
          </a:prstGeom>
          <a:noFill/>
          <a:ln w="9360">
            <a:solidFill>
              <a:srgbClr val="006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1" name="Textfeld 27"/>
          <p:cNvSpPr/>
          <p:nvPr/>
        </p:nvSpPr>
        <p:spPr>
          <a:xfrm>
            <a:off x="858960" y="3879720"/>
            <a:ext cx="2214360" cy="824040"/>
          </a:xfrm>
          <a:prstGeom prst="rect">
            <a:avLst/>
          </a:prstGeom>
          <a:noFill/>
          <a:ln w="9360">
            <a:solidFill>
              <a:srgbClr val="006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2" name="Textfeld 27"/>
          <p:cNvSpPr/>
          <p:nvPr/>
        </p:nvSpPr>
        <p:spPr>
          <a:xfrm>
            <a:off x="6415200" y="1592280"/>
            <a:ext cx="2214360" cy="824040"/>
          </a:xfrm>
          <a:prstGeom prst="rect">
            <a:avLst/>
          </a:prstGeom>
          <a:noFill/>
          <a:ln w="9360">
            <a:solidFill>
              <a:srgbClr val="006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3" name="Textfeld 27"/>
          <p:cNvSpPr/>
          <p:nvPr/>
        </p:nvSpPr>
        <p:spPr>
          <a:xfrm>
            <a:off x="6443640" y="4437000"/>
            <a:ext cx="2214720" cy="824040"/>
          </a:xfrm>
          <a:prstGeom prst="rect">
            <a:avLst/>
          </a:prstGeom>
          <a:noFill/>
          <a:ln w="9360">
            <a:solidFill>
              <a:srgbClr val="006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>
            <a:off x="3071880" y="2214720"/>
            <a:ext cx="655560" cy="234720"/>
          </a:xfrm>
          <a:prstGeom prst="line">
            <a:avLst/>
          </a:prstGeom>
          <a:ln w="9360">
            <a:solidFill>
              <a:srgbClr val="5656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3040200" y="3143160"/>
            <a:ext cx="433080" cy="0"/>
          </a:xfrm>
          <a:prstGeom prst="line">
            <a:avLst/>
          </a:prstGeom>
          <a:ln w="9360">
            <a:solidFill>
              <a:srgbClr val="5656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6" name="Line 29"/>
          <p:cNvSpPr/>
          <p:nvPr/>
        </p:nvSpPr>
        <p:spPr>
          <a:xfrm flipV="1">
            <a:off x="3071880" y="4000320"/>
            <a:ext cx="585720" cy="285480"/>
          </a:xfrm>
          <a:prstGeom prst="line">
            <a:avLst/>
          </a:prstGeom>
          <a:ln w="9360">
            <a:solidFill>
              <a:srgbClr val="5656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H="1">
            <a:off x="5632560" y="1989000"/>
            <a:ext cx="792000" cy="648000"/>
          </a:xfrm>
          <a:prstGeom prst="line">
            <a:avLst/>
          </a:prstGeom>
          <a:ln w="9360">
            <a:solidFill>
              <a:srgbClr val="5656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 flipH="1">
            <a:off x="5551560" y="3429000"/>
            <a:ext cx="792000" cy="0"/>
          </a:xfrm>
          <a:prstGeom prst="line">
            <a:avLst/>
          </a:prstGeom>
          <a:ln w="9360">
            <a:solidFill>
              <a:srgbClr val="5656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 flipH="1" flipV="1">
            <a:off x="5508360" y="4292640"/>
            <a:ext cx="925560" cy="542880"/>
          </a:xfrm>
          <a:prstGeom prst="line">
            <a:avLst/>
          </a:prstGeom>
          <a:ln w="9360">
            <a:solidFill>
              <a:srgbClr val="5656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30" name="Textfeld 27"/>
          <p:cNvSpPr/>
          <p:nvPr/>
        </p:nvSpPr>
        <p:spPr>
          <a:xfrm>
            <a:off x="857160" y="5065560"/>
            <a:ext cx="2214720" cy="1067400"/>
          </a:xfrm>
          <a:prstGeom prst="rect">
            <a:avLst/>
          </a:prstGeom>
          <a:noFill/>
          <a:ln w="9360">
            <a:solidFill>
              <a:srgbClr val="006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565656"/>
                </a:solidFill>
                <a:latin typeface="Arial"/>
              </a:rPr>
              <a:t>Wissen und Informatio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 flipV="1">
            <a:off x="3071880" y="5071680"/>
            <a:ext cx="857160" cy="428760"/>
          </a:xfrm>
          <a:prstGeom prst="line">
            <a:avLst/>
          </a:prstGeom>
          <a:ln w="9360">
            <a:solidFill>
              <a:srgbClr val="5656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32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liennummernplatzhalter 2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CCCA-E043-4A68-9E29-A9E2388F5B8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34" name="Picture 3" descr="C:\Users\Wilwasser\AppData\Local\Microsoft\Windows\Temporary Internet Files\Content.IE5\N486E3VY\MC900281285[1].wmf"/>
          <p:cNvPicPr/>
          <p:nvPr/>
        </p:nvPicPr>
        <p:blipFill>
          <a:blip r:embed="rId1"/>
          <a:stretch/>
        </p:blipFill>
        <p:spPr>
          <a:xfrm>
            <a:off x="1285920" y="1643040"/>
            <a:ext cx="2519280" cy="3729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0" y="928440"/>
            <a:ext cx="4330800" cy="5072040"/>
          </a:xfrm>
          <a:prstGeom prst="rect">
            <a:avLst/>
          </a:prstGeom>
          <a:solidFill>
            <a:srgbClr val="f0eff1"/>
          </a:solidFill>
          <a:ln w="9360">
            <a:solidFill>
              <a:srgbClr val="565656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Wissen und Information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Wissen über sexualisierte Gewalt, kriegsbedingte Traumata und Re-traumatisierung / Trauma-Reaktivierung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Wissen um Sozialisation der heute älteren und alten Mensch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Einordnen von individuellen Erfahrungen in gesellschaftliche, historische und politische Zusammenhänge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Kenntnis von Anlauf- und Beratungsstellen in der Regio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36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liennummernplatzhalter 2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CABA-0AB9-45B4-B618-F5177775D292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38" name="Legende mit Linie 2 24"/>
          <p:cNvSpPr/>
          <p:nvPr/>
        </p:nvSpPr>
        <p:spPr>
          <a:xfrm>
            <a:off x="4572000" y="928800"/>
            <a:ext cx="4330800" cy="3652560"/>
          </a:xfrm>
          <a:prstGeom prst="borderCallout2">
            <a:avLst>
              <a:gd name="adj1" fmla="val 18750"/>
              <a:gd name="adj2" fmla="val -8333"/>
              <a:gd name="adj3" fmla="val 22259"/>
              <a:gd name="adj4" fmla="val -9421"/>
              <a:gd name="adj5" fmla="val 44212"/>
              <a:gd name="adj6" fmla="val -22972"/>
            </a:avLst>
          </a:prstGeom>
          <a:solidFill>
            <a:srgbClr val="f0eff1"/>
          </a:solidFill>
          <a:ln w="9360">
            <a:solidFill>
              <a:srgbClr val="5656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Traumatische Erfahrungen „mitdenken“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Traumatische Erfahrungen bereits im Anamnese-Gespräch erfragen 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Traumatische Erfahrungen bei der  Beobachtung, Interpretation und Reaktion auf Verhaltensweisen berücksichtigen 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39" name="Picture 3" descr="C:\Users\Wilwasser\AppData\Local\Microsoft\Windows\Temporary Internet Files\Content.IE5\N486E3VY\MC900281285[1].wmf"/>
          <p:cNvPicPr/>
          <p:nvPr/>
        </p:nvPicPr>
        <p:blipFill>
          <a:blip r:embed="rId1"/>
          <a:stretch/>
        </p:blipFill>
        <p:spPr>
          <a:xfrm>
            <a:off x="1285920" y="1643040"/>
            <a:ext cx="2519280" cy="3729240"/>
          </a:xfrm>
          <a:prstGeom prst="rect">
            <a:avLst/>
          </a:prstGeom>
          <a:ln w="0">
            <a:noFill/>
          </a:ln>
        </p:spPr>
      </p:pic>
      <p:sp>
        <p:nvSpPr>
          <p:cNvPr id="140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liennummernplatzhalter 2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90C4-ED59-4191-843F-A430371F729E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42" name="Legende mit Linie 2 24"/>
          <p:cNvSpPr/>
          <p:nvPr/>
        </p:nvSpPr>
        <p:spPr>
          <a:xfrm>
            <a:off x="4572000" y="928800"/>
            <a:ext cx="4330800" cy="4572000"/>
          </a:xfrm>
          <a:prstGeom prst="borderCallout2">
            <a:avLst>
              <a:gd name="adj1" fmla="val 18750"/>
              <a:gd name="adj2" fmla="val -8333"/>
              <a:gd name="adj3" fmla="val 22259"/>
              <a:gd name="adj4" fmla="val -9421"/>
              <a:gd name="adj5" fmla="val 50620"/>
              <a:gd name="adj6" fmla="val -22254"/>
            </a:avLst>
          </a:prstGeom>
          <a:solidFill>
            <a:srgbClr val="f0eff1"/>
          </a:solidFill>
          <a:ln w="9360">
            <a:solidFill>
              <a:srgbClr val="5656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Traumatische 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Erfahrungen ernst nehmen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Erfahrungen anerkennen, Gewalt verurteil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Erlebtes nicht bagatellisieren, sondern würdig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Gefühle validier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Gegebenenfalls an Beratungsstellen oder andere Gesprächspartner (bspw. Pfarrer_in, Psychotherapeut_in) weitervermitteln 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43" name="Picture 3" descr="C:\Users\Wilwasser\AppData\Local\Microsoft\Windows\Temporary Internet Files\Content.IE5\N486E3VY\MC900281285[1].wmf"/>
          <p:cNvPicPr/>
          <p:nvPr/>
        </p:nvPicPr>
        <p:blipFill>
          <a:blip r:embed="rId1"/>
          <a:stretch/>
        </p:blipFill>
        <p:spPr>
          <a:xfrm>
            <a:off x="1285920" y="1643040"/>
            <a:ext cx="2519280" cy="3729240"/>
          </a:xfrm>
          <a:prstGeom prst="rect">
            <a:avLst/>
          </a:prstGeom>
          <a:ln w="0">
            <a:noFill/>
          </a:ln>
        </p:spPr>
      </p:pic>
      <p:sp>
        <p:nvSpPr>
          <p:cNvPr id="144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liennummernplatzhalter 2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2A94-B250-48E2-A352-59B4D84C53E6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46" name="Legende mit Linie 2 24"/>
          <p:cNvSpPr/>
          <p:nvPr/>
        </p:nvSpPr>
        <p:spPr>
          <a:xfrm>
            <a:off x="4572000" y="928800"/>
            <a:ext cx="4330800" cy="5429160"/>
          </a:xfrm>
          <a:prstGeom prst="borderCallout2">
            <a:avLst>
              <a:gd name="adj1" fmla="val 18750"/>
              <a:gd name="adj2" fmla="val -8333"/>
              <a:gd name="adj3" fmla="val 22259"/>
              <a:gd name="adj4" fmla="val -9421"/>
              <a:gd name="adj5" fmla="val 36453"/>
              <a:gd name="adj6" fmla="val -23212"/>
            </a:avLst>
          </a:prstGeom>
          <a:solidFill>
            <a:srgbClr val="f0eff1"/>
          </a:solidFill>
          <a:ln w="9360">
            <a:solidFill>
              <a:srgbClr val="5656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Ressourcen erfragen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Bei Personen, die gut verbal kommunizieren können 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565656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Nach Tätigkeiten oder Sinnes-eindrücken fragen, die sie bisher als hilfreich empfunden hab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Bei Personen, die selbst nicht mehr verbal kommunizieren können 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565656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Angehörige befragen und selbst beobachten, in welchen Situationen die Person zufrieden/entspannt/weniger angespannt wirkt. </a:t>
            </a:r>
            <a:r>
              <a:rPr b="0" lang="de-DE" sz="1600" spc="-1" strike="noStrike">
                <a:solidFill>
                  <a:srgbClr val="565656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 Was ist dann anders?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In Situationen, in denen die Person unruhig/ angespannt/ panisch o.ä. wirkt 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565656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Bekannte Ressourcen wenn möglich verfügbar mach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47" name="Picture 3" descr="C:\Users\Wilwasser\AppData\Local\Microsoft\Windows\Temporary Internet Files\Content.IE5\N486E3VY\MC900281285[1].wmf"/>
          <p:cNvPicPr/>
          <p:nvPr/>
        </p:nvPicPr>
        <p:blipFill>
          <a:blip r:embed="rId1"/>
          <a:stretch/>
        </p:blipFill>
        <p:spPr>
          <a:xfrm>
            <a:off x="1285920" y="1643040"/>
            <a:ext cx="2519280" cy="372924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liennummernplatzhalter 2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8FFB-2155-47D1-AD77-7177BB6280C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0" y="928440"/>
            <a:ext cx="4330800" cy="4786200"/>
          </a:xfrm>
          <a:prstGeom prst="rect">
            <a:avLst/>
          </a:prstGeom>
          <a:solidFill>
            <a:srgbClr val="f0eff1"/>
          </a:solidFill>
          <a:ln w="9360">
            <a:solidFill>
              <a:srgbClr val="565656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Sicherheit schaffen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Äußere Sicherheit 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Transparenz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Kontinuität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Innere Sicherheit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Übungen zur Reorientierung anbiet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Besprechen, was die Person braucht, um sich sicher zu fühlen und es verfügbar mach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Sie sind nicht allein, ich bin hier bei Ihnen“, „Es ist vorbei“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51" name="Picture 3" descr="C:\Users\Wilwasser\AppData\Local\Microsoft\Windows\Temporary Internet Files\Content.IE5\N486E3VY\MC900281285[1].wmf"/>
          <p:cNvPicPr/>
          <p:nvPr/>
        </p:nvPicPr>
        <p:blipFill>
          <a:blip r:embed="rId1"/>
          <a:stretch/>
        </p:blipFill>
        <p:spPr>
          <a:xfrm>
            <a:off x="1285920" y="1643040"/>
            <a:ext cx="2519280" cy="37292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liennummernplatzhalter 2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8564-07DB-4C53-922A-FBEB5A1BC52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54" name="Legende mit Linie 2 24"/>
          <p:cNvSpPr/>
          <p:nvPr/>
        </p:nvSpPr>
        <p:spPr>
          <a:xfrm>
            <a:off x="4500720" y="928800"/>
            <a:ext cx="4402080" cy="5286240"/>
          </a:xfrm>
          <a:prstGeom prst="borderCallout2">
            <a:avLst>
              <a:gd name="adj1" fmla="val 18750"/>
              <a:gd name="adj2" fmla="val -8333"/>
              <a:gd name="adj3" fmla="val 22259"/>
              <a:gd name="adj4" fmla="val -9421"/>
              <a:gd name="adj5" fmla="val 36453"/>
              <a:gd name="adj6" fmla="val -23212"/>
            </a:avLst>
          </a:prstGeom>
          <a:solidFill>
            <a:srgbClr val="f0eff1"/>
          </a:solidFill>
          <a:ln w="9360">
            <a:solidFill>
              <a:srgbClr val="5656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Erfahrungen der Selbstwirksamkeit ermöglichen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Wahlmöglichkeiten bei Pfleger_innen, Freizeitgestaltung, Essen o.a. lass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Alte Gewohnheiten und Rituale beacht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Bei der Pflege </a:t>
            </a:r>
            <a:r>
              <a:rPr b="1" lang="de-DE" sz="1600" spc="-1" strike="noStrike">
                <a:solidFill>
                  <a:srgbClr val="565656"/>
                </a:solidFill>
                <a:latin typeface="Arial"/>
              </a:rPr>
              <a:t>bspw</a:t>
            </a: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.: 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56565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Hand bei Pflege führ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56565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Einverständnis erfragen und Pflegeschritte erklären und ankündigen 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56565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Sichtschutz im Doppelzimmer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Verantwortungsvoll auch mit eigenen Grenzen umgeh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55" name="Picture 3" descr="C:\Users\Wilwasser\AppData\Local\Microsoft\Windows\Temporary Internet Files\Content.IE5\N486E3VY\MC900281285[1].wmf"/>
          <p:cNvPicPr/>
          <p:nvPr/>
        </p:nvPicPr>
        <p:blipFill>
          <a:blip r:embed="rId1"/>
          <a:stretch/>
        </p:blipFill>
        <p:spPr>
          <a:xfrm>
            <a:off x="1285920" y="1643040"/>
            <a:ext cx="2519280" cy="3729240"/>
          </a:xfrm>
          <a:prstGeom prst="rect">
            <a:avLst/>
          </a:prstGeom>
          <a:ln w="0">
            <a:noFill/>
          </a:ln>
        </p:spPr>
      </p:pic>
      <p:sp>
        <p:nvSpPr>
          <p:cNvPr id="156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liennummernplatzhalter 2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0F50-8B9E-4235-9C66-5F4D80552AC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58" name="Legende mit Linie 2 24"/>
          <p:cNvSpPr/>
          <p:nvPr/>
        </p:nvSpPr>
        <p:spPr>
          <a:xfrm>
            <a:off x="4572000" y="928800"/>
            <a:ext cx="4259160" cy="4429080"/>
          </a:xfrm>
          <a:prstGeom prst="borderCallout2">
            <a:avLst>
              <a:gd name="adj1" fmla="val 18750"/>
              <a:gd name="adj2" fmla="val -8333"/>
              <a:gd name="adj3" fmla="val 22259"/>
              <a:gd name="adj4" fmla="val -9421"/>
              <a:gd name="adj5" fmla="val 43120"/>
              <a:gd name="adj6" fmla="val -22736"/>
            </a:avLst>
          </a:prstGeom>
          <a:solidFill>
            <a:srgbClr val="f0eff1"/>
          </a:solidFill>
          <a:ln w="9360">
            <a:solidFill>
              <a:srgbClr val="5656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Vermutungen über traumatische Erfahrungen im Team teilen und besprechen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Im Team eine gemeinsame Kultur des Hinschauens entwickel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Unsicherheiten besprechen und gemeinsame Herangehensweisen erarbeit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Gegebenenfalls Unterstützung /Supervision /Fortbildung in Anspruch nehm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59" name="Picture 3" descr="C:\Users\Wilwasser\AppData\Local\Microsoft\Windows\Temporary Internet Files\Content.IE5\N486E3VY\MC900281285[1].wmf"/>
          <p:cNvPicPr/>
          <p:nvPr/>
        </p:nvPicPr>
        <p:blipFill>
          <a:blip r:embed="rId1"/>
          <a:stretch/>
        </p:blipFill>
        <p:spPr>
          <a:xfrm>
            <a:off x="1285920" y="1643040"/>
            <a:ext cx="2519280" cy="3729240"/>
          </a:xfrm>
          <a:prstGeom prst="rect">
            <a:avLst/>
          </a:prstGeom>
          <a:ln w="0">
            <a:noFill/>
          </a:ln>
        </p:spPr>
      </p:pic>
      <p:sp>
        <p:nvSpPr>
          <p:cNvPr id="160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7E73-C713-4491-B1B7-62239ABEEC41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62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685800" y="175896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64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50920" y="2639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000"/>
                </a:solidFill>
                <a:latin typeface="Arial"/>
              </a:rPr>
              <a:t>Übung: Reorienierung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21AF-01C1-4157-87E6-C8EAC3416B14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62" name="Picture 13" descr="swpf-logo"/>
          <p:cNvPicPr/>
          <p:nvPr/>
        </p:nvPicPr>
        <p:blipFill>
          <a:blip r:embed="rId1"/>
          <a:stretch/>
        </p:blipFill>
        <p:spPr>
          <a:xfrm>
            <a:off x="228600" y="76320"/>
            <a:ext cx="685800" cy="55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05_NRW_MGEPA_CMYK_Fsrder_b"/>
          <p:cNvPicPr/>
          <p:nvPr/>
        </p:nvPicPr>
        <p:blipFill>
          <a:blip r:embed="rId2"/>
          <a:stretch/>
        </p:blipFill>
        <p:spPr>
          <a:xfrm>
            <a:off x="1219320" y="130320"/>
            <a:ext cx="1676160" cy="479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5"/>
          <p:cNvSpPr/>
          <p:nvPr/>
        </p:nvSpPr>
        <p:spPr>
          <a:xfrm>
            <a:off x="250920" y="1357200"/>
            <a:ext cx="842472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79d"/>
                </a:solidFill>
                <a:latin typeface="Arial"/>
              </a:rPr>
              <a:t>Unterstützungsmöglichkeiten für alte Frauen mit sexualisierten Gewalterfahrungen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5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66" name="Picture 24" descr="WiWaLogo_4c"/>
          <p:cNvPicPr/>
          <p:nvPr/>
        </p:nvPicPr>
        <p:blipFill>
          <a:blip r:embed="rId3"/>
          <a:stretch/>
        </p:blipFill>
        <p:spPr>
          <a:xfrm>
            <a:off x="0" y="5400720"/>
            <a:ext cx="2556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65BE-4748-422E-A9B1-FE87F026252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67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457200" y="70344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Übungen zur Reorientierung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57120" y="1903320"/>
            <a:ext cx="79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Unterbrechung von situationsbedingten Dissoziationen: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Reorientierung durch taktile Erfahrungen, Geräusche,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Bewegung, Gerüche, etc.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Musterunterbrechun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Klare, deutliche Ansprache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Kognitive und haptische Reorientierung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Fokussierung auf den Atem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Blickkontak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Spezifische Aufgabenstellungen, …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	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Ziel ist der Gegenwartsbezug!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3000240" y="6213600"/>
            <a:ext cx="974880" cy="215640"/>
          </a:xfrm>
          <a:prstGeom prst="rightArrow">
            <a:avLst>
              <a:gd name="adj1" fmla="val 50000"/>
              <a:gd name="adj2" fmla="val 113022"/>
            </a:avLst>
          </a:prstGeom>
          <a:solidFill>
            <a:srgbClr val="00679d"/>
          </a:solidFill>
          <a:ln w="9360">
            <a:solidFill>
              <a:srgbClr val="0067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71" name="Picture 14" descr="C:\Users\Wilwasser\AppData\Local\Microsoft\Windows\Temporary Internet Files\Content.IE5\LOE784WY\MC900254370[1].wmf"/>
          <p:cNvPicPr/>
          <p:nvPr/>
        </p:nvPicPr>
        <p:blipFill>
          <a:blip r:embed="rId2"/>
          <a:stretch/>
        </p:blipFill>
        <p:spPr>
          <a:xfrm>
            <a:off x="6589800" y="3395520"/>
            <a:ext cx="1787400" cy="1319400"/>
          </a:xfrm>
          <a:prstGeom prst="rect">
            <a:avLst/>
          </a:prstGeom>
          <a:ln w="0">
            <a:noFill/>
          </a:ln>
        </p:spPr>
      </p:pic>
      <p:sp>
        <p:nvSpPr>
          <p:cNvPr id="172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AE42-42F5-446A-A03C-5198ECFBD52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74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685800" y="175896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76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50920" y="2639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000"/>
                </a:solidFill>
                <a:latin typeface="Arial"/>
              </a:rPr>
              <a:t>Übung: Atem- und Körperübung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D8E9-868F-4D9A-BE0C-2D9106E42F40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79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80" name="Textfeld 4"/>
          <p:cNvSpPr/>
          <p:nvPr/>
        </p:nvSpPr>
        <p:spPr>
          <a:xfrm>
            <a:off x="357120" y="78588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Weitere Beispiele für Übungen zur 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Reorientierung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81" name="Textfeld 5"/>
          <p:cNvSpPr/>
          <p:nvPr/>
        </p:nvSpPr>
        <p:spPr>
          <a:xfrm>
            <a:off x="857160" y="2143080"/>
            <a:ext cx="7929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Konzentration auf eine Blickrichtung und Beschreibung dessen, was dort zu sehen is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181080" indent="-18108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Bewegung im Raum und Spüren der Füße auf dem Bod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181080" indent="-18108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ufstehen, Fenster öffnen, durchatm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181080" indent="-18108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Den eigenen Körper mit flachen Händen abklatschen oder die eigenen Hände knet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181080" indent="-18108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Igelbälle in die Hand nehmen und spür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181080" indent="-18108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82" name="Picture 6" descr="C:\Users\Wilwasser\AppData\Local\Microsoft\Windows\Temporary Internet Files\Content.IE5\89GCAT46\MC900390686[1].wmf"/>
          <p:cNvPicPr/>
          <p:nvPr/>
        </p:nvPicPr>
        <p:blipFill>
          <a:blip r:embed="rId2"/>
          <a:stretch/>
        </p:blipFill>
        <p:spPr>
          <a:xfrm>
            <a:off x="6300720" y="4653000"/>
            <a:ext cx="1852560" cy="1560600"/>
          </a:xfrm>
          <a:prstGeom prst="rect">
            <a:avLst/>
          </a:prstGeom>
          <a:ln w="0">
            <a:noFill/>
          </a:ln>
        </p:spPr>
      </p:pic>
      <p:sp>
        <p:nvSpPr>
          <p:cNvPr id="183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534D-169B-4A92-B687-9B82AEBCA1DE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85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86" name="Textfeld 4"/>
          <p:cNvSpPr/>
          <p:nvPr/>
        </p:nvSpPr>
        <p:spPr>
          <a:xfrm>
            <a:off x="357120" y="78588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Ressourcenorientierung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87" name="Textfeld 5"/>
          <p:cNvSpPr/>
          <p:nvPr/>
        </p:nvSpPr>
        <p:spPr>
          <a:xfrm>
            <a:off x="357120" y="1882800"/>
            <a:ext cx="8286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2440" indent="-165240">
              <a:lnSpc>
                <a:spcPct val="100000"/>
              </a:lnSpc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eine </a:t>
            </a:r>
            <a:r>
              <a:rPr b="0" lang="de-DE" sz="2000" spc="-1" strike="noStrike">
                <a:solidFill>
                  <a:srgbClr val="00679d"/>
                </a:solidFill>
                <a:latin typeface="Arial"/>
                <a:ea typeface="ヒラギノ角ゴ Pro W3"/>
              </a:rPr>
              <a:t>Grundhaltung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, die sich an den </a:t>
            </a:r>
            <a:r>
              <a:rPr b="0" lang="de-DE" sz="2000" spc="-1" strike="noStrike">
                <a:solidFill>
                  <a:srgbClr val="00679d"/>
                </a:solidFill>
                <a:latin typeface="Arial"/>
                <a:ea typeface="ヒラギノ角ゴ Pro W3"/>
              </a:rPr>
              <a:t>Stärken, Kompetenzen und Fähigkeiten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 und nicht an Defiziten oder Schwächen orientier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Prämisse ist hierbei, dass jeder Mensch über Ressourcen verfügt, diese aber nicht immer abrufbar, einsetzbar sind und somit aktuell nicht zur Zielerreichung oder Lösung genutzt werden könn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Ziel ist das </a:t>
            </a:r>
            <a:r>
              <a:rPr b="0" lang="de-DE" sz="2000" spc="-1" strike="noStrike">
                <a:solidFill>
                  <a:srgbClr val="00679d"/>
                </a:solidFill>
                <a:latin typeface="Arial"/>
                <a:ea typeface="ヒラギノ角ゴ Pro W3"/>
              </a:rPr>
              <a:t>Erinnern, Reaktivieren von Ressourcen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um Entwicklung, Lösung oder Veränderung zu ermöglich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88" name="Picture 5" descr="C:\Users\Wilwasser\AppData\Local\Microsoft\Windows\Temporary Internet Files\Content.IE5\N486E3VY\MC900391004[1].wmf"/>
          <p:cNvPicPr/>
          <p:nvPr/>
        </p:nvPicPr>
        <p:blipFill>
          <a:blip r:embed="rId2"/>
          <a:stretch/>
        </p:blipFill>
        <p:spPr>
          <a:xfrm>
            <a:off x="7613640" y="4929120"/>
            <a:ext cx="714240" cy="906480"/>
          </a:xfrm>
          <a:prstGeom prst="rect">
            <a:avLst/>
          </a:prstGeom>
          <a:ln w="0">
            <a:noFill/>
          </a:ln>
        </p:spPr>
      </p:pic>
      <p:sp>
        <p:nvSpPr>
          <p:cNvPr id="189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C264-3038-4A9C-8FC3-73C4A769C660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91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685800" y="175896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93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50920" y="2639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000"/>
                </a:solidFill>
                <a:latin typeface="Arial"/>
              </a:rPr>
              <a:t>Übung: Ressourcen erfragen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C12C-8323-4114-90BF-3DD6893E4B8B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96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97" name="Textfeld 7"/>
          <p:cNvSpPr/>
          <p:nvPr/>
        </p:nvSpPr>
        <p:spPr>
          <a:xfrm>
            <a:off x="785880" y="1951200"/>
            <a:ext cx="7929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9504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Hantke, L./Görges, H.-J. (2012): Handbuch Traumakompetenz. Basiswissen für Therapie, Beratung und Pädagogik. Paderborn: Junfermann. 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82520" indent="-9504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98" name="Textfeld 8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99" name="Textfeld 5"/>
          <p:cNvSpPr/>
          <p:nvPr/>
        </p:nvSpPr>
        <p:spPr>
          <a:xfrm>
            <a:off x="2643120" y="71424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Literatur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52BC-DDB9-46FD-8AFE-5BE1620D9730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68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285920" y="7858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Was erwartet mich heute?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857160" y="1893960"/>
            <a:ext cx="7056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spcBef>
                <a:spcPts val="1250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Kurze Wiederholung Retraumatisierung und Trauma-Reaktivierung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271440" indent="-271440">
              <a:spcBef>
                <a:spcPts val="1250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as kann helfen?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271440" indent="-271440">
              <a:spcBef>
                <a:spcPts val="1250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Unerhörtem Raum geb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271440" indent="-271440">
              <a:spcBef>
                <a:spcPts val="1250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trategien und Übungen zur Reorientierung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271440" indent="-271440">
              <a:spcBef>
                <a:spcPts val="1250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Ressourcen erfra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1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841F-6E6C-46F1-B568-AE5626F0F59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73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428760" y="78264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Retraumatisierung und Trauma-Reaktivierung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857160" y="242892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79d"/>
                </a:solidFill>
                <a:latin typeface="Arial"/>
              </a:rPr>
              <a:t>Retraumatisierung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= Eine erneute traumatisierende Erfahrung trifft auf ein bereits bestehendes zurückliegendes Trauma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868320" y="4325760"/>
            <a:ext cx="7489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79d"/>
                </a:solidFill>
                <a:latin typeface="Arial"/>
              </a:rPr>
              <a:t>Trauma-Reaktivierung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= Ausgelöst durch bestimmte Schlüsselreize wird ein zurückliegendes Trauma wieder genau so oder ähnlich wie in der damaligen Situation erleb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77" name="Picture 8" descr="C:\Users\Wilwasser\AppData\Local\Microsoft\Windows\Temporary Internet Files\Content.IE5\CEOZ27RP\MP900448334[1].jpg"/>
          <p:cNvPicPr/>
          <p:nvPr/>
        </p:nvPicPr>
        <p:blipFill>
          <a:blip r:embed="rId2"/>
          <a:stretch/>
        </p:blipFill>
        <p:spPr>
          <a:xfrm>
            <a:off x="7786800" y="2357280"/>
            <a:ext cx="1143000" cy="171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C:\Users\Wilwasser\AppData\Local\Microsoft\Windows\Temporary Internet Files\Content.IE5\CEOZ27RP\MP900433723[1].jpg"/>
          <p:cNvPicPr/>
          <p:nvPr/>
        </p:nvPicPr>
        <p:blipFill>
          <a:blip r:embed="rId3"/>
          <a:stretch/>
        </p:blipFill>
        <p:spPr>
          <a:xfrm>
            <a:off x="7093080" y="5386320"/>
            <a:ext cx="1836720" cy="1185840"/>
          </a:xfrm>
          <a:prstGeom prst="rect">
            <a:avLst/>
          </a:prstGeom>
          <a:ln w="0">
            <a:noFill/>
          </a:ln>
        </p:spPr>
      </p:pic>
      <p:sp>
        <p:nvSpPr>
          <p:cNvPr id="79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822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Mögliche Auslöser in der Pflege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56800" y="183204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ktuelle </a:t>
            </a:r>
            <a:r>
              <a:rPr b="0" lang="de-DE" sz="2000" spc="-1" strike="noStrike">
                <a:solidFill>
                  <a:srgbClr val="00679d"/>
                </a:solidFill>
                <a:latin typeface="Arial"/>
              </a:rPr>
              <a:t>Sinneserfahrungen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bzw. </a:t>
            </a:r>
            <a:r>
              <a:rPr b="0" lang="de-DE" sz="2000" spc="-1" strike="noStrike">
                <a:solidFill>
                  <a:srgbClr val="00679d"/>
                </a:solidFill>
                <a:latin typeface="Arial"/>
              </a:rPr>
              <a:t>Situationen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, die </a:t>
            </a:r>
            <a:r>
              <a:rPr b="0" lang="de-DE" sz="2000" spc="-1" strike="noStrike">
                <a:solidFill>
                  <a:srgbClr val="00679d"/>
                </a:solidFill>
                <a:latin typeface="Arial"/>
              </a:rPr>
              <a:t>Ähnlichkeiten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mit den Erfahrungen während des Traumageschehens haben, wie bspw.: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358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Gerüche, Geräusche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Sirenen, Donnergroll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(Fremd-)Sprache, Dialekte, Tonfall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Gesten, Mimik, ein bestimmtes Lächel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Dunkelheit, verschlossene Tür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eine Person, die plötzlich ohne zu klopfen im Zimmer steht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pflegerische Handlungen und das damit einhergehende Gefühl der Hilflosigkeit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Radio-/TV-Übertragungen im Aufenthaltsraum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82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83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782640"/>
            <a:ext cx="8786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Mögliche Reaktionen auf Auslöser…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…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entsprechen sowohl den </a:t>
            </a:r>
            <a:r>
              <a:rPr b="0" lang="de-DE" sz="2000" spc="-1" strike="noStrike">
                <a:solidFill>
                  <a:srgbClr val="00679d"/>
                </a:solidFill>
                <a:latin typeface="Arial"/>
              </a:rPr>
              <a:t>emotionalen Stressreaktionen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ährend des Traumatas, wie: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79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79d"/>
                </a:solidFill>
                <a:latin typeface="Arial"/>
              </a:rPr>
              <a:t>Flucht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– bspw. Unruhe, Hin- und Herlaufen, Übererregung, Aufgeregtheit, ausgeprägter Bewegungsdrang, Schlaflosigkeit, …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79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79d"/>
                </a:solidFill>
                <a:latin typeface="Arial"/>
              </a:rPr>
              <a:t>Gegenwehr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– bspw. Abwehr, Verweigerung, aggressives Verhalten, Schreien, massives Abwerten, …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79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79d"/>
                </a:solidFill>
                <a:latin typeface="Arial"/>
              </a:rPr>
              <a:t>Erstarrung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– bspw. depressives Verhalten, sozialer Rückzug, Apathie, Sprachlosigkeit, Gedächtnislücken, …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86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87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920" y="782640"/>
            <a:ext cx="8786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Mögliche Reaktionen auf Auslöser…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56760" y="1857240"/>
            <a:ext cx="80298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…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ls auch den </a:t>
            </a:r>
            <a:r>
              <a:rPr b="0" lang="de-DE" sz="2000" spc="-1" strike="noStrike">
                <a:solidFill>
                  <a:srgbClr val="00679d"/>
                </a:solidFill>
                <a:latin typeface="Arial"/>
              </a:rPr>
              <a:t>körperlichen Stressreaktionen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ährend des Traumatas, wie bspw.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271440" indent="-271440"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Herzras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271440" indent="-271440"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ngst- und Panikattack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271440" indent="-271440"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Blutzuckerschwankun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271440" indent="-271440"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tembeschwerden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271440" indent="-271440"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Übelkeit …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90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91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liennummernplatzhalter 5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1B726-27C5-4B7E-ABFD-2EAA6D470344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93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ttp://3.bp.blogspot.com/-LzaQaH0hEjc/UFMRTT2cswI/AAAAAAAAAfg/Plxu1INnLMo/s400/Radi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52840" y="2349360"/>
            <a:ext cx="3809880" cy="2524320"/>
          </a:xfrm>
          <a:prstGeom prst="rect">
            <a:avLst/>
          </a:prstGeom>
          <a:ln w="0">
            <a:noFill/>
          </a:ln>
        </p:spPr>
      </p:pic>
      <p:sp>
        <p:nvSpPr>
          <p:cNvPr id="95" name="Textfeld 6"/>
          <p:cNvSpPr/>
          <p:nvPr/>
        </p:nvSpPr>
        <p:spPr>
          <a:xfrm>
            <a:off x="1143000" y="11430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Es wühlt zuerst auf, aber hinterher wird’s ein bisschen leichter.“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96" name="langfassung bünde.WAV" descr=""/>
          <p:cNvPicPr/>
          <p:nvPr/>
        </p:nvPicPr>
        <p:blipFill>
          <a:blip r:embed="rId4"/>
          <a:stretch/>
        </p:blipFill>
        <p:spPr>
          <a:xfrm>
            <a:off x="6581880" y="2593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7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8" name="Rechteck 8"/>
          <p:cNvSpPr/>
          <p:nvPr/>
        </p:nvSpPr>
        <p:spPr>
          <a:xfrm>
            <a:off x="2286000" y="53244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565555"/>
                </a:solidFill>
                <a:uFillTx/>
                <a:latin typeface="Arial"/>
                <a:hlinkClick r:id="rId5"/>
              </a:rPr>
              <a:t>www.alterundtrauma.de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7612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3480C-4EB2-42A4-8245-FAA84CC9A31C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00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457200" y="78120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Was kann helfen?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57360" y="1809720"/>
            <a:ext cx="820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03" name="Picture 9" descr="C:\Users\Wilwasser\AppData\Local\Microsoft\Windows\Temporary Internet Files\Content.IE5\N486E3VY\MP900407501[1].jpg"/>
          <p:cNvPicPr/>
          <p:nvPr/>
        </p:nvPicPr>
        <p:blipFill>
          <a:blip r:embed="rId2"/>
          <a:stretch/>
        </p:blipFill>
        <p:spPr>
          <a:xfrm>
            <a:off x="1943280" y="2060640"/>
            <a:ext cx="5187600" cy="3456000"/>
          </a:xfrm>
          <a:prstGeom prst="rect">
            <a:avLst/>
          </a:prstGeom>
          <a:ln w="0">
            <a:noFill/>
          </a:ln>
        </p:spPr>
      </p:pic>
      <p:sp>
        <p:nvSpPr>
          <p:cNvPr id="104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5:18:52Z</dcterms:created>
  <dc:creator>Anja Richter</dc:creator>
  <dc:description/>
  <dc:language>en-US</dc:language>
  <cp:lastModifiedBy>Wilwasser</cp:lastModifiedBy>
  <dcterms:modified xsi:type="dcterms:W3CDTF">2016-05-13T08:32:52Z</dcterms:modified>
  <cp:revision>148</cp:revision>
  <dc:subject/>
  <dc:title>PowerPoint-Präsentation</dc:title>
</cp:coreProperties>
</file>